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BB5-DAD7-49D5-AE3C-37938494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CA1C-6F3B-4381-BE42-CFAAF966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AEA2-F08E-40E5-8CF3-1B789CB0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288-E2BD-4991-AB77-E0D25D31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7458-97E5-4785-AEB7-4114D1B0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743C-5854-4B28-B539-7BC4B071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5DBC-DB5D-4A4E-AF89-86EB6F25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160A-E3D8-4C59-9D51-D947B763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8B1F-1C15-404B-8F7A-2B055AE4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1AF8-30D2-4711-8D61-B9D25BD6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AA74-76AC-4835-BF65-8A7BD72A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6397-9847-4AF2-9D69-C789E92B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81AA-7963-4A1D-B648-71B582FA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F0C7-3803-4D6D-AFAC-48ED4A30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FCA1-3BC6-46B5-AF44-150B72ED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065A-FCEC-4FC2-9F65-1A2A8D12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B24B-9BDD-4AF1-9C1E-0CBC3888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49CC7-A1F6-480D-804E-9DEC9477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F252D-3BB0-4540-8CF6-1FFF18B7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E98D0-24F2-40B2-A102-E0820D97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15CAB-F515-482E-828D-59218D7A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41447-0443-459D-AB63-0F9CDD4B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63C-942C-4B52-89A0-4B2BAF86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6A1BF-93E3-40F5-83C7-1DC42BD0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8F28B-C662-4CD1-909D-73654E78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D4D91-2E16-4762-B8B9-F6A777EE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7686D-5409-4F91-BD5F-B3039519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219E8-521B-4B0D-A17B-2F4F3723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4D42D-1F11-4401-8F2C-984EDEA9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B6ACD-5B76-4BC6-9075-6ABF9CB4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DD770-4572-4718-9EDF-58579CE1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7A7A9-0AED-4649-A43E-AC7CFA3F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CD497-718D-4E89-8BA6-3BBA65BF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C5B-86A8-4D61-92F7-CBCA5644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BF828-3F13-4E2D-8353-9E8BCFDA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F85EC-0430-4630-B769-A3F047DB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E72EA-69D1-4D60-865F-9BD59D92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D8D8A-2FC3-46D9-AC8B-34703951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32EAB-2169-41F9-AC20-8742011B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98052-A672-4988-85DB-EACDFE68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EA974-8A60-4924-BDEC-265A7556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5CBA4-0A18-47D9-ACEF-D2F982E0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32022-6B5A-40A4-94BD-E753825B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F67AC-3287-4741-BA9C-A3362FDD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BB1F-A93C-43FD-A429-9095DE17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7F8D2-C71E-460E-AD55-2F7388E3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02EA8-E8C4-46C7-BA29-A790D2A7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FB10B-10B7-4178-BC3C-59BA4DA9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C799A-5EBE-44A0-8A99-2D364199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521C6-CB37-4776-9544-7E5F8BC8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561B1-BEEA-4625-93DB-37F77FA4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D0B0B-EEFC-4C0D-83A4-2786F8A3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06F87-EA87-482B-A8BC-F0B7D6E9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A383B-CC43-4DEA-89EB-1D4F1833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0C316-015D-4B07-9BB8-8A9F84C9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D615-DC36-46EC-9A92-7975DFB8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D6D10-21AE-45AD-B6A1-DAAAC0B6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D4B62-84CE-4DBF-9C8F-F1180D11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3C507-B410-4168-91DC-9D5EF767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973A3-9092-49C2-8C5C-0C2F9C55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1D32D-9C9C-41E8-8035-7CE152AF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77990-00FB-449F-8572-9BEC8F18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6EB5A-D0AD-4438-8B99-2B494E04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B20FB-72D5-403B-84B3-07041ACD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E0467-5013-45AA-9E94-49DA7501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E714B-BD22-43DC-9929-13BC3358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E10-8CDD-434A-8BC3-8E49331A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056D6-6F65-4811-8338-FD952358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A7834-1E33-4588-B906-97CA4265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95B86-10B3-4187-8C2C-B834E112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53D5A-D5F9-4EE2-A139-FC98A54C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58131-131A-45B4-A342-0AC65216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52F1D-72D1-408A-863C-5FC80967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C0607-EFA7-425C-BD56-42B8CFFF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A585F-8DD6-434F-AC98-25044B61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D0F50-3366-4B6D-869F-F7018AC6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1B94F-6730-48DF-9B53-B7F2248E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F69-0EF9-4A68-8827-30C87447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D4929-2EFB-42D3-A568-CE2F9A16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757B3-0870-488A-8D0F-14698ECB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E75DB-5A84-49C7-85BD-8B368F6C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4EDD9-4F1E-49BE-B58E-948CCC72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A206C-6C41-4680-84CD-2E80F370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EE8-E59B-4A31-852E-275E8F71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3F84-5FCF-460D-ACBA-AFF2663EF00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AFD1-37CC-4BB6-B9E6-E7D43A853F4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A5AE-1926-45B3-B421-7A503718B54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A227-120F-446A-8F3F-96CFF77B377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8322-5768-4DFC-97AB-C2E41810670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BDA1-A2A0-4589-A1AD-3E3E353BAFB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D41E-BB57-406F-94CA-8F68F753B50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рганизация фильтрации контента в школе и дом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500040" y="635796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идельников Александр, Череповец 201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kyDNS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работчик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kyD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айт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www.skydns.ru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оимость: бесплатн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ndows, Linux, Mac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особы фильтрации: спис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erio Control + Web Filter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работчик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Keri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айт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kerio.ru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оимость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36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€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242 + 94)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год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особы фильтрации: списки, запросы, содержимо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aspersky Internet Security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работчик: Лаборатория Касперског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айт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kaspersky.ru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оимость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800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р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год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особы фильтрации: спис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нтернет Цензо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работчик: ИнтернетД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айт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www.icensor.ru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оимость: бесплатн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особы фильтрации: белые спис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JIK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работчик: Вячеслав Кочетк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айт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rejik.ru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оимость: бесплатн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nux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особы фильтрации: списки, запрос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ansGuardian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работчик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aniel Barr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айт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dansguardian.org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оимость: бесплатно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ля дома и НК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nux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особы фильтрации: списки, запросы, содержимо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РО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NS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работчик: ООО «Мегаверсия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айт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netpolice.ru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оимость: бесплатн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ndows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nux, Mac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особы фильтрации: спис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 заключен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ильтрация по спискам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сто не обеспечивает нужного уровня фильтрац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кон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ожность обхода фильтрац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которые системы можно устанавливать параллельн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комендац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пасибо за вним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идельников Александр Борисович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il: ab@sidelnikov.or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cq: 259-132-47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log: http://sidelnikov.wordpress.co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гро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«Взрослые» сайты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Фишинговые сайты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иратский софт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айты, распространяющие вирусы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айты экстремистской направленности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Ресурсы с неконтролируемым содержимым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циальные се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айлообменни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ото/видео хостинг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логи, форумы, чат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нлайн-игр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лассифика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иды категоризаци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писки сайтов и категорий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окальная баз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далённая баз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атегоризация «на лету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 адрес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 содержимом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атегоризация самим сайто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блемы фильтр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одном сайте расположен и «плохой», и «хороший» контен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тоянно создаются новые сай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ожно проверять шифрованный траффи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ожно проверять траффик, проходящий через прокси-сервер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ожность блокировки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er-to-peer (p2p)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раффи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etPolice Child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работчик: ООО «Мегаверсия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айт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netpolice.ru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оимость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00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у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особы фильтрации: списки, запросы, содержимо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etPolice Pro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работчик: ООО «Мегаверсия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айт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netpolice.ru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оимость: 1200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у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особы фильтрации: списки, запросы, содержимо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etPolice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it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работчик: ООО «Мегаверсия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айт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netpolice.ru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оимость: бесплатн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особы фильтрации: списки, запрос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etPolice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LTLinux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работчик: ООО «Мегаверсия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айт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netpolice.ru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оимость: бесплатн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nux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особы фильтрации: спис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etPolice DNS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работчик: ООО «Мегаверсия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айт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netpolice.ru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оимость: бесплатн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ndows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nux, Mac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особы фильтрации: спис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21:26:52Z</dcterms:created>
  <dc:creator>Александр</dc:creator>
  <dc:description/>
  <dc:language>en-US</dc:language>
  <cp:lastModifiedBy>Антания</cp:lastModifiedBy>
  <dcterms:modified xsi:type="dcterms:W3CDTF">2013-11-08T08:46:20Z</dcterms:modified>
  <cp:revision>45</cp:revision>
  <dc:subject/>
  <dc:title>Организация контентной фильтрации в школе и дома</dc:title>
</cp:coreProperties>
</file>